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B829A-5DCA-4F8C-BD7F-11AE5EAC4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D9ED0-B118-4D65-B402-155BBF28D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79CA4-4F1F-467B-BEA5-572C6F574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6DE00-7235-45C1-A8CF-118D6D6F4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A8E96-9D68-44D8-B3B2-2C7D52D21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D3124-03B8-4910-A88A-5321358BE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66C71-C6BE-4794-97E0-DD7B4868F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23012-1E5A-465F-A006-3F1729556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9206C-B7CD-4F94-B708-BB956548C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25DCE-C6E8-4307-A922-5DC40D997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4E1C3-79C2-4483-8A0F-2BA0E7ED3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F6F94-8A0C-4845-9D62-90E695BBA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150D7-58FB-403D-8901-F2F8098C8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2D129-0D94-4A50-82EE-D4FA1AEFD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2164B-BD87-42EB-9276-5A198AEB5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2861C-3B08-406D-BA3A-4B1C68171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FB2BA-1ABB-42FF-AA69-38A416F85A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928E4-20FE-447C-9785-5A1CEF190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EA5A9-4EE0-43F1-AF3C-C7F99BA09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C8C74-FE26-47E1-975D-29218235B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C2E56-96F1-4D28-9667-E15F7253C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4D7EA-7A55-4C9F-B60B-E14AB3B85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60C56-ED43-42DA-9D0E-B597279BC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4FFD7-16C0-4453-96C7-29868716B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0FD1-39F7-4327-8FB1-30185BF7D5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2C29-DFE4-4F19-8C95-A21182CED9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ject Overview</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609480" y="4038120"/>
            <a:ext cx="7848720" cy="175284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Geometric Approach to Improving Active Packet Loss Management</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System Requirement Specification</a:t>
            </a:r>
            <a:endParaRPr b="0" lang="en-US" sz="4000" spc="-1" strike="noStrike">
              <a:solidFill>
                <a:srgbClr val="cbcbcb"/>
              </a:solidFill>
              <a:latin typeface="Times New Roman"/>
            </a:endParaRPr>
          </a:p>
        </p:txBody>
      </p:sp>
      <p:sp>
        <p:nvSpPr>
          <p:cNvPr id="108" name="PlaceHolder 2"/>
          <p:cNvSpPr>
            <a:spLocks noGrp="1"/>
          </p:cNvSpPr>
          <p:nvPr>
            <p:ph/>
          </p:nvPr>
        </p:nvSpPr>
        <p:spPr>
          <a:xfrm>
            <a:off x="1219320" y="1905120"/>
            <a:ext cx="7238880" cy="4495680"/>
          </a:xfrm>
          <a:prstGeom prst="rect">
            <a:avLst/>
          </a:prstGeom>
          <a:noFill/>
          <a:ln w="0">
            <a:noFill/>
          </a:ln>
        </p:spPr>
        <p:txBody>
          <a:bodyPr lIns="92160" rIns="92160" tIns="46080" bIns="4608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rdware:</a:t>
            </a:r>
            <a:endParaRPr b="1"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OR         :    </a:t>
            </a:r>
            <a:r>
              <a:rPr b="0" lang="en-US" sz="1600" spc="-1" strike="noStrike">
                <a:solidFill>
                  <a:srgbClr val="ffffff"/>
                </a:solidFill>
                <a:latin typeface="Arial"/>
              </a:rPr>
              <a:t>	</a:t>
            </a:r>
            <a:r>
              <a:rPr b="0" lang="en-US" sz="1600" spc="-1" strike="noStrike">
                <a:solidFill>
                  <a:srgbClr val="ffffff"/>
                </a:solidFill>
                <a:latin typeface="Arial"/>
              </a:rPr>
              <a:t>PENTIUM IV 2.6 GHz</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M</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512 MB </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15” </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 DISK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20 GB</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DRIV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52X</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BOARD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STANDARD 102 KEYS</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US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3 BUTTONS</a:t>
            </a:r>
            <a:endParaRPr b="1" lang="en-US" sz="16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a:t>
            </a:r>
            <a:endParaRPr b="1"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NT END                :    </a:t>
            </a:r>
            <a:r>
              <a:rPr b="0" lang="en-US" sz="1600" spc="-1" strike="noStrike">
                <a:solidFill>
                  <a:srgbClr val="ffffff"/>
                </a:solidFill>
                <a:latin typeface="Arial"/>
              </a:rPr>
              <a:t>	</a:t>
            </a:r>
            <a:r>
              <a:rPr b="0" lang="en-US" sz="1600" spc="-1" strike="noStrike">
                <a:solidFill>
                  <a:srgbClr val="ffffff"/>
                </a:solidFill>
                <a:latin typeface="Arial"/>
              </a:rPr>
              <a:t>JAVA, SWING</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USED              :    </a:t>
            </a:r>
            <a:r>
              <a:rPr b="0" lang="en-US" sz="1600" spc="-1" strike="noStrike">
                <a:solidFill>
                  <a:srgbClr val="ffffff"/>
                </a:solidFill>
                <a:latin typeface="Arial"/>
              </a:rPr>
              <a:t>	</a:t>
            </a:r>
            <a:r>
              <a:rPr b="0" lang="en-US" sz="1600" spc="-1" strike="noStrike">
                <a:solidFill>
                  <a:srgbClr val="ffffff"/>
                </a:solidFill>
                <a:latin typeface="Arial"/>
              </a:rPr>
              <a:t>JFRAME BUILDER</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RATING SYSTEM:    </a:t>
            </a:r>
            <a:r>
              <a:rPr b="0" lang="en-US" sz="1600" spc="-1" strike="noStrike">
                <a:solidFill>
                  <a:srgbClr val="ffffff"/>
                </a:solidFill>
                <a:latin typeface="Arial"/>
              </a:rPr>
              <a:t>	</a:t>
            </a:r>
            <a:r>
              <a:rPr b="0" lang="en-US" sz="1600" spc="-1" strike="noStrike">
                <a:solidFill>
                  <a:srgbClr val="ffffff"/>
                </a:solidFill>
                <a:latin typeface="Arial"/>
              </a:rPr>
              <a:t>WINDOWS XP</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a:t>
            </a:r>
            <a:endParaRPr b="0" lang="en-US" sz="4400" spc="-1" strike="noStrike">
              <a:solidFill>
                <a:srgbClr val="cbcbcb"/>
              </a:solidFill>
              <a:latin typeface="Times New Roman"/>
            </a:endParaRPr>
          </a:p>
        </p:txBody>
      </p:sp>
      <p:sp>
        <p:nvSpPr>
          <p:cNvPr id="110" name="PlaceHolder 2"/>
          <p:cNvSpPr>
            <a:spLocks noGrp="1"/>
          </p:cNvSpPr>
          <p:nvPr>
            <p:ph/>
          </p:nvPr>
        </p:nvSpPr>
        <p:spPr>
          <a:xfrm>
            <a:off x="685800" y="2895120"/>
            <a:ext cx="7772400" cy="3505320"/>
          </a:xfrm>
          <a:prstGeom prst="rect">
            <a:avLst/>
          </a:prstGeom>
          <a:noFill/>
          <a:ln w="0">
            <a:noFill/>
          </a:ln>
        </p:spPr>
        <p:txBody>
          <a:bodyPr lIns="92160" rIns="92160" tIns="46080" bIns="4608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The purpose of our study was to understand how to measure end-to-end packet loss characteristics accurately with probes. Then we implement a tool named BADABING to find the packet loss accurately. Specifically, our method entails probe experiments that follow a geometric distribution to enable more accurate measurements than standard Poisson probing and other traditional packet loss measurement tools. We also find the transfer rat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1143000"/>
            <a:ext cx="76960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bstract</a:t>
            </a:r>
            <a:br>
              <a:rPr sz="4000"/>
            </a:br>
            <a:endParaRPr b="0" lang="en-US" sz="4400" spc="-1" strike="noStrike">
              <a:solidFill>
                <a:srgbClr val="cbcbcb"/>
              </a:solidFill>
              <a:latin typeface="Times New Roman"/>
            </a:endParaRPr>
          </a:p>
        </p:txBody>
      </p:sp>
      <p:sp>
        <p:nvSpPr>
          <p:cNvPr id="92" name="PlaceHolder 2"/>
          <p:cNvSpPr>
            <a:spLocks noGrp="1"/>
          </p:cNvSpPr>
          <p:nvPr>
            <p:ph/>
          </p:nvPr>
        </p:nvSpPr>
        <p:spPr>
          <a:xfrm>
            <a:off x="457200" y="1904760"/>
            <a:ext cx="7848720" cy="4724280"/>
          </a:xfrm>
          <a:prstGeom prst="rect">
            <a:avLst/>
          </a:prstGeom>
          <a:noFill/>
          <a:ln w="0">
            <a:noFill/>
          </a:ln>
        </p:spPr>
        <p:txBody>
          <a:bodyPr lIns="92160" rIns="92160" tIns="46080" bIns="4608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r>
              <a:rPr b="0" lang="en-US" sz="200" spc="-1" strike="noStrike">
                <a:solidFill>
                  <a:srgbClr val="ffffff"/>
                </a:solidFill>
                <a:latin typeface="Arial"/>
              </a:rPr>
              <a:t>	</a:t>
            </a:r>
            <a:r>
              <a:rPr b="0" lang="en-US" sz="1800" spc="-1" strike="noStrike">
                <a:solidFill>
                  <a:srgbClr val="ffffff"/>
                </a:solidFill>
                <a:latin typeface="Times New Roman"/>
              </a:rPr>
              <a:t>Measurement and estimation of packet loss characteristics are challenging due to the relatively rare occurrence and typically short duration of packet loss episodes. While active probe tools are commonly used to measure packet loss on end-to-end paths, there has been little analysis of the accuracy of these tools. The objective of our study is to understand how to measure packet loss episodes accurately with end-to-end probes. The standard Poisson-modulated end-to-end measurement of packet loss accuracy has to be improved. Thus, we introduce a new algorithm for packet loss measurement that is designed to overcome the deficiencies in standard Poisson-based tools. Specifically, our method entails probe experiments that follow a geometric distribution to enable more accurate measurements than standard Poisson probing and other traditional packet loss measurement tools. We also find the transfer rate. We evaluate the capabilities of our methodology experimentally by developing and implementing a prototype tool, called BADABING. The experiments demonstrate the trade-offs between impact on the network and measurement accuracy. BADABING reports loss characteristics are far more accurately than traditional loss measurement tool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tion</a:t>
            </a:r>
            <a:endParaRPr b="0" lang="en-US" sz="4400" spc="-1" strike="noStrike">
              <a:solidFill>
                <a:srgbClr val="cbcbcb"/>
              </a:solidFill>
              <a:latin typeface="Times New Roman"/>
            </a:endParaRPr>
          </a:p>
        </p:txBody>
      </p:sp>
      <p:sp>
        <p:nvSpPr>
          <p:cNvPr id="94" name="PlaceHolder 2"/>
          <p:cNvSpPr>
            <a:spLocks noGrp="1"/>
          </p:cNvSpPr>
          <p:nvPr>
            <p:ph/>
          </p:nvPr>
        </p:nvSpPr>
        <p:spPr>
          <a:xfrm>
            <a:off x="380880" y="1981080"/>
            <a:ext cx="8763120" cy="4648320"/>
          </a:xfrm>
          <a:prstGeom prst="rect">
            <a:avLst/>
          </a:prstGeom>
          <a:noFill/>
          <a:ln w="0">
            <a:noFill/>
          </a:ln>
        </p:spPr>
        <p:txBody>
          <a:bodyPr lIns="92160" rIns="92160" tIns="46080" bIns="4608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Times New Roman"/>
              </a:rPr>
              <a:t>Measuring and analyzing network traffic dynamics between end hosts has provided the foundation for the development of many different network protocols and systems. Of particular importance is under-standing packet loss behavior since loss can have a significant impact on the performance of both TCP- and UDP-based applications. Despite efforts of network engineers and operators to limit loss, it will probably never be eliminated due to the intrinsic dynamics and scaling properties of traffic in packet switched network. Network operators have the ability to passively monitor nodes within their network for packet loss on routers using SNMP. End-to-end active measurements using probes provide an equally valuable perspective since they indicate the conditions that application traffic is experiencing on those paths.</a:t>
            </a:r>
            <a:endParaRPr b="1"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Our study involves the empirical evaluation of our new loss measurement methodology. To this end, we developed a one-way active measurement tool called BADABING. BADABING sends fixed-size probes at specified intervals from one measurement host to a collaborating target host. The target system collects the probe packets and reports the loss characteristics after a specified period of time. We also compare BADABING with a standard tool for loss measurement that emits probe packets at Poisson intervals. The results show that our tool reports loss episode estimates much more accurately for the same number of probes. We also show that BADABING estimates converge to the underlying loss episode frequency and duration characteristic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ata Flow Diagram</a:t>
            </a:r>
            <a:endParaRPr b="0" lang="en-US" sz="4400" spc="-1" strike="noStrike">
              <a:solidFill>
                <a:srgbClr val="cbcbcb"/>
              </a:solidFill>
              <a:latin typeface="Times New Roman"/>
            </a:endParaRPr>
          </a:p>
        </p:txBody>
      </p:sp>
      <p:pic>
        <p:nvPicPr>
          <p:cNvPr id="96" name="Rectangle 7" descr=""/>
          <p:cNvPicPr/>
          <p:nvPr/>
        </p:nvPicPr>
        <p:blipFill>
          <a:blip r:embed="rId1"/>
          <a:stretch/>
        </p:blipFill>
        <p:spPr>
          <a:xfrm>
            <a:off x="1871640" y="2948040"/>
            <a:ext cx="5400720" cy="218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dules of the Project</a:t>
            </a:r>
            <a:endParaRPr b="0" lang="en-US" sz="4400" spc="-1" strike="noStrike">
              <a:solidFill>
                <a:srgbClr val="cbcbcb"/>
              </a:solidFill>
              <a:latin typeface="Times New Roman"/>
            </a:endParaRPr>
          </a:p>
        </p:txBody>
      </p:sp>
      <p:sp>
        <p:nvSpPr>
          <p:cNvPr id="98" name="PlaceHolder 2"/>
          <p:cNvSpPr>
            <a:spLocks noGrp="1"/>
          </p:cNvSpPr>
          <p:nvPr>
            <p:ph/>
          </p:nvPr>
        </p:nvSpPr>
        <p:spPr>
          <a:xfrm>
            <a:off x="1447560" y="2361960"/>
            <a:ext cx="7010280" cy="37335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 Separation</a:t>
            </a:r>
            <a:endParaRPr b="1" lang="en-US" sz="24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gning the Queue</a:t>
            </a:r>
            <a:endParaRPr b="1" lang="en-US" sz="24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 Receiver</a:t>
            </a:r>
            <a:endParaRPr b="1" lang="en-US" sz="24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r Interface Design</a:t>
            </a:r>
            <a:endParaRPr b="1" lang="en-US" sz="24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 Loss Calculation</a:t>
            </a:r>
            <a:r>
              <a:rPr b="1" lang="en-US" sz="2400" spc="-1" strike="noStrike">
                <a:solidFill>
                  <a:srgbClr val="ffffff"/>
                </a:solidFill>
                <a:latin typeface="Times New Roman"/>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dule Description</a:t>
            </a:r>
            <a:endParaRPr b="0" lang="en-US" sz="4400" spc="-1" strike="noStrike">
              <a:solidFill>
                <a:srgbClr val="cbcbcb"/>
              </a:solidFill>
              <a:latin typeface="Times New Roman"/>
            </a:endParaRPr>
          </a:p>
        </p:txBody>
      </p:sp>
      <p:sp>
        <p:nvSpPr>
          <p:cNvPr id="100" name="PlaceHolder 2"/>
          <p:cNvSpPr>
            <a:spLocks noGrp="1"/>
          </p:cNvSpPr>
          <p:nvPr>
            <p:ph/>
          </p:nvPr>
        </p:nvSpPr>
        <p:spPr>
          <a:xfrm>
            <a:off x="685800" y="2361960"/>
            <a:ext cx="7772400" cy="37335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cket Separation:</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rPr>
              <a:t>In this module we have to separate the input data into packets. These packets are then sent to the Queu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signing the Queu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rPr>
              <a:t>The Queue is designed in order to create the packet loss. The queue receives the packets from the Sender, creates the packet loss and then sends the remaining packets to the Receiver.</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cket Receiver:</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he Packet Receiver is used to receive the packets from the Queue after the packet loss. Then the receiver displays the received packets from the Queu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dule Description</a:t>
            </a:r>
            <a:endParaRPr b="0" lang="en-US" sz="4400" spc="-1" strike="noStrike">
              <a:solidFill>
                <a:srgbClr val="cbcbcb"/>
              </a:solidFill>
              <a:latin typeface="Times New Roman"/>
            </a:endParaRPr>
          </a:p>
        </p:txBody>
      </p:sp>
      <p:sp>
        <p:nvSpPr>
          <p:cNvPr id="102"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Interface Design:</a:t>
            </a: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rPr>
              <a:t>In this module we design the user interface for Sender, Queue, Receiver and Result displaying window. These windows are designed in order to display all the processes in this project.</a:t>
            </a: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cket Loss Calculation:</a:t>
            </a: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rPr>
              <a:t>The calculations to find the packet loss are done in this module. Thus we are developing the tool to find the packet loss.</a:t>
            </a:r>
            <a:r>
              <a:rPr b="1" lang="en-US" sz="2000" spc="-1" strike="noStrike">
                <a:solidFill>
                  <a:srgbClr val="ffffff"/>
                </a:solidFill>
                <a:latin typeface="Times New Roman"/>
              </a:rPr>
              <a:t> </a:t>
            </a:r>
            <a:endParaRPr b="1"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xisting System</a:t>
            </a:r>
            <a:endParaRPr b="0" lang="en-US" sz="4400" spc="-1" strike="noStrike">
              <a:solidFill>
                <a:srgbClr val="cbcbcb"/>
              </a:solidFill>
              <a:latin typeface="Times New Roman"/>
            </a:endParaRPr>
          </a:p>
        </p:txBody>
      </p:sp>
      <p:sp>
        <p:nvSpPr>
          <p:cNvPr id="104" name="PlaceHolder 2"/>
          <p:cNvSpPr>
            <a:spLocks noGrp="1"/>
          </p:cNvSpPr>
          <p:nvPr>
            <p:ph/>
          </p:nvPr>
        </p:nvSpPr>
        <p:spPr>
          <a:xfrm>
            <a:off x="609480" y="2286000"/>
            <a:ext cx="7772400" cy="3657600"/>
          </a:xfrm>
          <a:prstGeom prst="rect">
            <a:avLst/>
          </a:prstGeom>
          <a:noFill/>
          <a:ln w="0">
            <a:noFill/>
          </a:ln>
        </p:spPr>
        <p:txBody>
          <a:bodyPr lIns="92160" rIns="92160" tIns="46080" bIns="46080" anchor="t">
            <a:normAutofit/>
          </a:bodyPr>
          <a:p>
            <a:pPr lvl="1" marL="76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62120" indent="-30492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the Existing traditional packet loss measurement tools, the accuracy of the packet loss measurement has to be improved. </a:t>
            </a:r>
            <a:endParaRPr b="1" lang="en-US" sz="1800" spc="-1" strike="noStrike">
              <a:solidFill>
                <a:srgbClr val="ffffff"/>
              </a:solidFill>
              <a:latin typeface="Arial"/>
            </a:endParaRPr>
          </a:p>
          <a:p>
            <a:pPr lvl="1" marL="7621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62120" indent="-30492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veral studies include the use of loss measurements to estimate packet loss, such as Poisson modulated tools which can be quite inaccurat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posed System</a:t>
            </a:r>
            <a:endParaRPr b="0" lang="en-US" sz="4400" spc="-1" strike="noStrike">
              <a:solidFill>
                <a:srgbClr val="cbcbcb"/>
              </a:solidFill>
              <a:latin typeface="Times New Roman"/>
            </a:endParaRPr>
          </a:p>
        </p:txBody>
      </p:sp>
      <p:sp>
        <p:nvSpPr>
          <p:cNvPr id="106" name="PlaceHolder 2"/>
          <p:cNvSpPr>
            <a:spLocks noGrp="1"/>
          </p:cNvSpPr>
          <p:nvPr>
            <p:ph/>
          </p:nvPr>
        </p:nvSpPr>
        <p:spPr>
          <a:xfrm>
            <a:off x="990360" y="2590920"/>
            <a:ext cx="7391160" cy="3124080"/>
          </a:xfrm>
          <a:prstGeom prst="rect">
            <a:avLst/>
          </a:prstGeom>
          <a:noFill/>
          <a:ln w="0">
            <a:noFill/>
          </a:ln>
        </p:spPr>
        <p:txBody>
          <a:bodyPr lIns="92160" rIns="92160" tIns="46080" bIns="46080" anchor="t">
            <a:normAutofit/>
          </a:bodyPr>
          <a:p>
            <a:pPr marL="343080" indent="-343080">
              <a:lnSpc>
                <a:spcPct val="100000"/>
              </a:lnSpc>
              <a:spcBef>
                <a:spcPts val="4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purpose of our study was to understand how to measure end-to-end packet loss characteristics accurately.</a:t>
            </a:r>
            <a:endParaRPr b="1"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nSpc>
                <a:spcPct val="100000"/>
              </a:lnSpc>
              <a:spcBef>
                <a:spcPts val="4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goal of our study is to understand how to accurately measure loss characteristics on end-to-end paths with probes.</a:t>
            </a:r>
            <a:endParaRPr b="1"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nSpc>
                <a:spcPct val="100000"/>
              </a:lnSpc>
              <a:spcBef>
                <a:spcPts val="4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fically, our method entails probe experiments that follow a geometric distribution to improve the accuracy of the packet loss measurement.</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11:45:50Z</dcterms:created>
  <dc:creator>BCT-13</dc:creator>
  <dc:description/>
  <dc:language>en-US</dc:language>
  <cp:lastModifiedBy>Spiro54</cp:lastModifiedBy>
  <dcterms:modified xsi:type="dcterms:W3CDTF">2008-09-01T04:35:39Z</dcterms:modified>
  <cp:revision>58</cp:revision>
  <dc:subject/>
  <dc:title>Project Overview</dc:title>
</cp:coreProperties>
</file>