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5A0A-356B-45F8-AC09-C2EA98614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032B-0AB9-416D-B89E-62B05AE5B7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F8A9-9A8A-47DD-AD9C-DF908665C4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6D45-12BC-4012-BDD7-4CD2B8391C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B380-5785-4464-A84F-A05F87F820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036B-B899-428F-BA51-49E59ED294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6E90-9106-4971-A62F-EC7C0A5238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F88F-E3A1-48E3-AF56-7635A35F1A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A02E-55D0-4F5A-A2CB-5792A7BB9C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2CE0-D309-40FD-AF30-B0912902AA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653E-0BB5-4FD6-BB24-58F8FA1340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18DF8-B5DE-4C5F-AE98-CEB62B7A3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43FC7-98D3-404E-9D09-1E5A14A80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F8A00-FBCD-42E2-AA71-07C1E1706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A44CB-D3E4-4415-ADCB-8E9DA75B5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84A79-6888-4B2E-9208-3F8DA4ECD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281AB-28DF-43FE-96E2-26A2BBFAD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E2FB7-98D4-4D19-99C6-F73AD0686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4703B-0686-4CBA-9998-264AA70B9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D24A4-7F09-43C7-9A25-767CEAA13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6683B-F2AF-4EF5-BBE3-B7A103EDC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55ABD-AEA0-4D7B-8E87-B4503B06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3A4B-A895-40FB-802E-37251407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B85E1-C308-4912-9F99-5DDBB0A69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C0801-9932-49FE-8590-A9BAC7BC6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50210-D6F8-478F-8882-88CFA9213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440D6-DCF9-4881-82DE-4E1B2AB5D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50556-35AD-4149-B752-1A1AF1013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14CB7-D7E8-4059-A68A-7A5EEB4B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04081-DE74-452A-A2A1-AE2E8EB0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E4C8A-C822-49D4-B5B3-A512539B8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75DA-6018-440C-B04F-59F142AC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DF20-79D0-40D3-8F6A-9BD84759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D804-5B79-4F7C-B9D9-F748784D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9A99-9505-4386-912A-FE8A9820A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6E79-D405-4EEF-90D9-162CA063A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1D2E-4F0B-42CF-9F2A-8559F43745A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rror Control System In Network Environment</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stem Requirements</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rdware Requiremen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or </a:t>
            </a:r>
            <a:r>
              <a:rPr b="0" lang="en-US" sz="2400" spc="-1" strike="noStrike">
                <a:solidFill>
                  <a:srgbClr val="000000"/>
                </a:solidFill>
                <a:latin typeface="Tahoma"/>
              </a:rPr>
              <a:t>	</a:t>
            </a:r>
            <a:r>
              <a:rPr b="0" lang="en-US" sz="2400" spc="-1" strike="noStrike">
                <a:solidFill>
                  <a:srgbClr val="000000"/>
                </a:solidFill>
                <a:latin typeface="Tahoma"/>
              </a:rPr>
              <a:t>:   Intel Processor IV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28 MB</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 disk</a:t>
            </a:r>
            <a:r>
              <a:rPr b="0" lang="en-US" sz="2400" spc="-1" strike="noStrike">
                <a:solidFill>
                  <a:srgbClr val="000000"/>
                </a:solidFill>
                <a:latin typeface="Tahoma"/>
              </a:rPr>
              <a:t>	</a:t>
            </a:r>
            <a:r>
              <a:rPr b="0" lang="en-US" sz="2400" spc="-1" strike="noStrike">
                <a:solidFill>
                  <a:srgbClr val="000000"/>
                </a:solidFill>
                <a:latin typeface="Tahoma"/>
              </a:rPr>
              <a:t>:  40 GB</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Requiremen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2sdk1.4.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Xp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BSTRACT</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ently, distributed dynamic channel allocation algorithms have been proposed, and they have gained a lot of attention due to their high reliability and scalability. But, in most of the algorithms, the cell that wants to borrow a channel has to wait for replies from all its interference neighbors and, hence, is not fault-tolerant. In this paper, we propose a new algorithm that is fault-tolerant and makes full use of the available channels. It can tolerate the failure of mobile nodes as well as static nodes without any significant degradation in serv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isting System</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hannel allocation algorithm  in cellular network follows the centralized approaches , request for channel is sent to and processed by a central controller, called Mobile Switching Center (MSC). But, this approach is neither scalable nor robust because the MSC could become a bottle-neck when the traffic load is heavy  and the failure of the MSC will bring down the entire syste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d performanc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not co operate with failure of MSC cas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C make use of static informatio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posed System </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posed algorithm: load balancing with selective borrowing (LBSB) is a centralized approach. In this algorithm, a cell can be classified either as a hot or a cold  cell according to the value of its degree of coldness. The degree of coldness of a cell is defined as the ratio of number of available channels in this cell and the number of channels which have been allocated to this cell beforehan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ule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ute Discovery</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annel Acquisition Algorithm</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annel Selection Algorithm</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oute Discovery</a:t>
            </a:r>
            <a:br>
              <a:rPr sz="4400"/>
            </a:b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initiate the Route Discovery, node transmits a "Route Request" as a single local broadcast packet, which is received by (approximately) all nodes currently on the transmission range of, including node.  Each Route Request identifies the initiator and target of the Route Discovery, and also contains a unique request identification determined by the initiator of the Request.  Each Route Request also contains a record listing the address of each intermediate node through which this particular copy of the Route Request has been forward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hannel Acquisition Algorithm</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algorithm, a cell can be classified either as a hot or a cold  cell according to the value of its degree of coldness. The degree of coldness of a cell is defined as the ratio of number of available channels in this cell and the number of channels which have been allocated to this cell beforeha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hannel Selection Algorithm</a:t>
            </a:r>
            <a:r>
              <a:rPr b="0" lang="en-US"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gorithm solves the tele traffic hot spot problem in cellular networks. A hot spot is defined as a stack of hexagonal rings of cells and is termed complete if all the cells within it are hot. Load balancing is achieved by using a structured channel borrowing scheme, in which a hot cell can borrow channels only from adjacent cells in the next outer ring. Thus, unused channels are migrated into a hot spot from its peripheral rings. We have to check whether a cell needs to borrow a channel, it has to wait until it gets reply messages from all its interference neighb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ed dynamic channel allocation algorithms have gained more attention because of their high reliability and scalability. However, some of them did not address fault tolerance issues very wel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2:35:45Z</dcterms:created>
  <dc:creator>bluechip Technologies</dc:creator>
  <dc:description/>
  <dc:language>en-US</dc:language>
  <cp:lastModifiedBy>RAJESH KHANNA</cp:lastModifiedBy>
  <dcterms:modified xsi:type="dcterms:W3CDTF">2011-04-07T09:01:43Z</dcterms:modified>
  <cp:revision>23</cp:revision>
  <dc:subject/>
  <dc:title> An Efficient Fault-Tolerant Distributed Channel Allocation Algorithm for Cellular Networks </dc:title>
</cp:coreProperties>
</file>